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D6A-2DDE-4BDE-810B-7CBF6E77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C64-81AC-468B-8766-CDA38457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EB4-EA7A-4508-8793-029F5EF3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D39-848B-4FFB-BAD0-76FF6DE5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B2FE-72A5-495B-8D8A-D8268845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274E-25CC-47CE-8049-61910B73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E4B2-F351-45DF-8E29-36AEE2C5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545C-E190-46FD-B65B-29A3B268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752D-2C71-4273-A415-F9D23CD2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2604-F5B2-4111-90D1-F8DFB75D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86E3-43A5-43C8-BEB2-0C59EEA0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21C-866F-4B47-8E23-0BDA9E9F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38FB-1423-462B-ABEE-DF622C4F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69B5-2237-4310-AF2C-D9CA0F04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FB0B-D782-49D6-822E-966A7F4A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8977-FF28-4DA5-9C4A-31CDBCC5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A198-238D-4954-8464-58895209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B8F-0A1D-4D39-8EBC-39A0D2C5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27B-8C82-4F88-8FF1-517E9465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23B-CB1A-4E03-9F78-D5634594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E2A-E40A-410B-8166-AB77AEC9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1C7-1649-427C-B979-05AAC575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101-A885-4FA8-B61C-F883E031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92E-E445-4DC7-BCE5-1116BB10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56FF-CA36-491E-9AA3-71CFFA129F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3918-227F-4315-B1ED-66024F532A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УКА ЗАПОСЛЕНИХ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дентификовање потреба за обу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зличити 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ниво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идентификовања потреба за обук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Организацио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ни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треба за обуком на нивоу </a:t>
            </a: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радног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Индивидуал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ни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Груп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ни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дентификовање потреба за обу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Метод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идентификовања потреба за обук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смат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нтервју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ређење перформан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нализа садржаја по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ефинисање 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циљев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обу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бор програма обук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 групе програма обу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ич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хнич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нања: руковање машинама и опре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терперсонал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пособности: комуникација, тимски рад, прегова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цептуално – интегратив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пособности: планирање, одлучивање, делеги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бор програма обук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грами обуке према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метод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Информацио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мет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Експериментал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мет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грами обуке према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месту одржавањ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На радном ме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У организацији ван радног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Ван орган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рганизација програма обук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5 модел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Функционални мо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Купац модел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Матрични мо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Модел корпоративног универзите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Виртуелна тренинг орган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знање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2 типа знањ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Имплици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Ескплицит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4 начина размене (конверзије) знањ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Социј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Интерн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Екстерн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Комбинаци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валуација квалитета обуке запослених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рсте евалу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напређење процеса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тицај на понашање и перформан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ритеријуми евалу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Зна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ештине и понаш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тавови и мотив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Резулт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нос на ангажовања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2-24T06:45:02Z</dcterms:modified>
  <cp:revision>167</cp:revision>
  <dc:subject/>
  <dc:title>Soft and Hard Skills Development: A Current Situation in Serbian Companies</dc:title>
</cp:coreProperties>
</file>